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BB1-C9CC-4ACA-8B83-AEC5A2EE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29A-006F-4B7F-B76B-27E95D2B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173E4-EF4D-4194-BE07-0870B866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FD13B-954A-4712-8A54-B92752A4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88E57-5F7C-4B5C-9F6B-8F217CE3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36B1F-5C8C-4DEB-BBAF-4FD89726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123DC-00E3-4F10-B2AA-0AE86420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2C25E-2EE9-43C9-90E3-AB300DA6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E630B-DB7F-4131-9C8C-E08FACEE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6495E-7572-4D7A-89AD-9B0560DC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6D964-4AE0-4D27-A550-B3D449FF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77FB5-3F89-4CF9-A730-17358550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10F-A623-499D-84BF-AFBE4D5E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95168-F6CB-446B-B5E2-6457A599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6C5C3-7FE0-4101-BC8A-DA4B5A85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D53AA-BF88-4022-B670-E094D88A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6EC7E-A7AB-43E0-8EC8-778DB321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03EC4-173F-4AE3-8CF2-0C448338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792C0-93AE-4E60-AF52-738F301E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D7D2F-6E2A-4D65-BD31-45C4F2D6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43082-889F-4016-9040-B910DE10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316B3-3FB4-414F-9FA3-6479200D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C651E-E694-42F7-9880-BBB5EB38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234-F405-4460-8974-F5C02B69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98922-29AF-492B-B376-EB60EBDA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AD937-5270-47C8-A4A9-47B870AE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707BB-9636-4D24-9867-8FCB7623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D6D0B-D1F2-47B8-A797-C55F2C5D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5455F-D08E-47EE-8010-1FEA33E2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850AD-2DA9-4E61-847A-11EDFC4C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EFBD5-8D1C-4E5F-B88F-5776A915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F0375-B0F6-4BEF-B1A1-704010A2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843BC-4EB3-4CC3-B48E-7E9CE6F6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72E1E-46A2-4913-9E6C-A8981941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317D-0B5A-47F2-81C0-8D9CB8C7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3DC68-1880-4CDC-8352-AFF6BA0A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F2224-8D2D-4D8F-9F9A-90D75576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76BB5-5AE1-4D20-ABB3-4B7CC497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B7164-90C1-466E-84CA-4BB6F028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A7156-2BFD-48F3-9CCB-340327ED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AA410-E18A-4A79-A232-42DAFF3E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2B55B-9ABA-4778-9210-32EFE21E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BE437-5DE7-4C6C-AF5E-B1F23EF2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37B0B-EC24-42FE-B875-058E5DA3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590C6-BC73-40A1-B5E2-697319E2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095E-4522-4BA1-800E-E19AA739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B767F-065C-474A-AD82-8A9BE7A1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948C5-8486-4A32-B37D-ACB2D1B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00468-A507-4AF4-9D3B-97B334B9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5D3C1-0BD7-494E-A975-8A2DB672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38805-E071-49AC-B0FC-2BE29E1F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61D7-956A-4CB2-8DE8-E432194F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AE6B-1B6E-4455-8AD0-DD2047B0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BBED-9077-4A23-B2A3-CFEFC7C6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FEB3-DC51-4E59-9619-28F49B8D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0AD1-E158-4A69-9261-0090B3B2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F9D-663D-479A-B027-7A8A9232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C427-5FBB-44A2-AD38-AF48251E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2371-439E-4F02-AA02-BD4468BB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3972-BAD6-42F0-8BE2-58665BF6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A62F-F4CE-4904-9FB7-E9462ED2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3C3A-70A8-451F-9B8D-8BD96420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D01C-74FC-4B9C-BAFB-A200C3D6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C7B66-FC33-451D-AB9E-5B92C092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9D99-51CF-4ADE-B584-DDE619AF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11B9C-01A6-44F1-A68C-790F45AE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0B67-68FF-4C79-A432-CC5B356A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134-236F-4587-8ABE-42526C5C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38EC-6C35-4C82-9220-D32802B6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928C-A104-4DE5-ACB6-8F763954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5F76-B6E9-4953-AB91-0022214F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F8DB6-69FF-495C-9D08-9E3F9F31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B49F-A0A5-4FF5-B223-A1FEEAB4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1CD2-45B2-49B6-B196-25329E63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EB0A8-909F-495F-9B2E-A93191A5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00582-CD4F-44B5-8633-2A2DB643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E0F0-E55D-4CB8-A1FD-EE68399E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08512-1361-4025-B01A-0FCB99F4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6B2-39DF-4F68-9060-A0CC030C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4B79B-A97C-4B11-8152-1D0AF115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AA7E2-A231-4B3F-8C01-D54ED1C1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22E1E-82E5-40F2-ACB0-442714AE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DD4E3-7BB2-483B-AE35-83F1F1F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FFD5F-B07B-4A85-BCDE-619937EB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A6CBB-205C-4A45-8285-688533DF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1EEDB-B50B-4FE6-8916-6BB36AFB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7925F-1576-492B-9B26-A235583F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33F81-BA05-4479-8A1D-E5C24233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608C7-3B3A-4673-BA18-5FF8298A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70E-DC8B-4A37-BF68-0193A7DB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E363-E3EB-4254-BE23-FBD8276A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DA5CD-5C17-41E0-9817-05257E11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9299A-6F36-4D00-8863-FECB2853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A2B24-C61B-4424-8117-C0B4D2A9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A8F68-122E-417F-A22D-799B3133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42FF2-4312-4752-A103-637E516F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D8784-2AFB-4608-83F7-93C31BF7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C5D6D-F96D-45CE-98AC-6965D707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299DF-30E3-420F-8173-689D4F37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5F100-00FB-4AD6-8DF0-AD51AD5B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DC3-ABE9-421F-B947-F22A4553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87507-6A1D-45FC-8A8B-BD3C483C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C8912-6E20-4C17-91A0-6996B0A8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1BB3D-060E-4673-9AB6-F173A88A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869BE-765A-4230-A7D7-9256170E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4DFA9-71D8-4F82-BB3B-AB9C4D3B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E4A45-4481-4658-84FD-70F7DC20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CE780-C822-4FC0-BD8A-CC8D8FA3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EC051-797F-40AB-AC60-7BEB94DC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9EEAA-43D2-4F2D-A0B0-67BCA1F4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D9F7F-7F36-424C-9E55-55682139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0A5-C0E3-461A-A616-BC0C06E9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86EAF-6250-4C18-88A0-1A762BD0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3ABBD-4362-4E3B-9440-BB18534C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7ACE4-C931-47DD-86E6-DFACF004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4B7E9-1A10-40F3-ABC6-F1A5EB97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CB3A4-6DC3-4638-8A69-A6C0784C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34A2D-520C-4F27-9FCA-3FED6EEC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07F95-AB9D-4BC0-9FE5-40E76929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D78F5-30FC-44D8-8CAD-2E8FACB8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6948D-23B2-4E95-B59E-A369C075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70946-0B3C-406F-B294-862C85A6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F97-9A96-4329-A845-09E048A6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7E9F6-2532-45EA-B869-44E1BA8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BE94A-41D6-488A-BE27-61B4DAC5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BAB9E-2EA8-46F6-9DA8-FAD64BC0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A4D17-59BA-4BA8-8779-90BE8DA8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77E10-C460-48B0-9CBA-6FC67A1F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4757A-F451-4A11-9112-D185D7E4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2039B-B014-4216-BC16-115BA7A5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131D8-1013-4E71-BD24-771741CF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DC110-FC35-42B7-85B4-8C69A42B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784F0-49B1-4B96-8FD6-5F7066FA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8C2-DF83-4A8A-8987-17C717DB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CDCAE-F106-499F-AD9F-8B4C3428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A673D-6860-4981-A39C-810A8B9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7E6D9-6AC0-4C70-8E98-E741BE34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66443-A129-4718-AF38-8B82989F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57F08-B916-4A08-BA32-32A77B38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0C9E8-205F-44B3-B4BB-EB4402DF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5CBAF-2F6F-48A1-9B47-BF2A4E70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96886-293A-4CA9-ACC0-C052059A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078B0-04D6-4AA1-B336-C698E2D1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A10AF-D08E-46DE-90A3-D0FE2E21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10F72-9D9D-424E-B1C7-DA76C37775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9B675-E4DA-452E-A476-8D54609B7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77AE25FF-537D-4D65-A90D-49959F7AE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F6C1E-878B-4C4D-8243-5A6EBBE9C1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FAF0F-CADC-4FF0-8F64-748A8E0CD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18677-47C8-459C-903D-28E598FFB5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0EADE-BC8F-4F59-BD37-669A5DFE8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345A2-DB3B-4FBD-98BB-ECAB518721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C9226-BC70-44F5-A62C-BA85594ED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2129E-0AB4-4B40-9B2A-ECE99F2C629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0EAE0-7C63-464B-8CCA-DFC686934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6FF16-9BF2-4C97-BBF1-993B05273A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3A3E5-3322-4CD6-B7ED-19D9757F3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8A7D6-C652-45DE-99E3-D28F74AC1B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FD502-3AC3-45A5-83E0-82B644265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C49B1-2BD2-4924-9FC3-DA31DAE945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5CCD0-DEE5-4EC1-877E-B8C8ECCDF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A8521-E7AE-4960-8605-834F42DDFB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D334C-C775-4472-8ABC-F1D9AD351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C78B2-AFF4-4C15-9CD5-8C46200785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9B46C-2D49-43DB-B1A5-D7B45EEFC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7DACF-DCBA-46A4-A043-15961CAA8F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ED2C1F-0EBC-4A61-ADC3-987F1CFCB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1C296-1FD5-4DF9-8DB0-72B00A87D3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7414C-0C86-45EF-A48E-68AD6FB36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ana.baresova@msmt.cz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7ED0A-D2F2-4E99-97EF-A99EFD889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tle 1"/>
          <p:cNvSpPr/>
          <p:nvPr/>
        </p:nvSpPr>
        <p:spPr>
          <a:xfrm>
            <a:off x="1238400" y="2176560"/>
            <a:ext cx="62830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2292480" y="2176560"/>
            <a:ext cx="4402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Jana Bareš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lužební cesty realizačního týmu – cestovné, ubytování, stravné, nutné vedlejší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Zahraniční expert v ČR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Per diems 230 €/den + doprava do ČR a zpě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růběhu realizace již nelze výdaje na zahraniční cesty navyšova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ímá vazba na realizaci klíčových aktiv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85840" y="1952640"/>
            <a:ext cx="7149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6" name="Obrázek 6" descr="sluzebni cesty.JPG"/>
          <p:cNvPicPr/>
          <p:nvPr/>
        </p:nvPicPr>
        <p:blipFill>
          <a:blip r:embed="rId1"/>
          <a:srcRect l="0" t="0" r="24761" b="0"/>
          <a:stretch/>
        </p:blipFill>
        <p:spPr>
          <a:xfrm>
            <a:off x="1096920" y="2109960"/>
            <a:ext cx="6900840" cy="288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57" name="Šipka doprava 12"/>
          <p:cNvSpPr/>
          <p:nvPr/>
        </p:nvSpPr>
        <p:spPr>
          <a:xfrm>
            <a:off x="1811160" y="27129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Šipka doprava 12"/>
          <p:cNvSpPr/>
          <p:nvPr/>
        </p:nvSpPr>
        <p:spPr>
          <a:xfrm>
            <a:off x="1811160" y="36003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Šipka doprava 12"/>
          <p:cNvSpPr/>
          <p:nvPr/>
        </p:nvSpPr>
        <p:spPr>
          <a:xfrm>
            <a:off x="1811160" y="4183200"/>
            <a:ext cx="500400" cy="214200"/>
          </a:xfrm>
          <a:prstGeom prst="right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30360" y="2335320"/>
          <a:ext cx="5792760" cy="297324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do zahraničí členů realizačního tý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realizačního týmu po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v zahranič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realizačního týmu v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a a per diems zahraničního expe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louhodobý nehmotný majet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na opravy a údrž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částí 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068480"/>
            <a:ext cx="6758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– křížové financo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9 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ohou uplatnit pouze příjemci, kteří majetek daňově neodepisuj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Helvetica CE"/>
              </a:rPr>
              <a:t>investiční čá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 hmotný majetek nad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zařízení a vybavení hmotné povahy s 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ou použitelnosti nad 1 rok a pořizovací cenou nad 40 tis. Kč za položk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pokud není možné tento majetek pořídit v nezbytné kvalitě za cenu nižš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343160" y="1952280"/>
            <a:ext cx="64576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Helvetica CE"/>
              </a:rPr>
              <a:t>ne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by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ioritně by měl být pořízen pro potřebu cílové skupin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kup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třeby realizačního tým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zvlášť zdůvodnit (vztahuje se na něj limi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5 000 Kč/1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počtený pracovní úvaz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4D2E8-8B07-4533-B61C-B56BDC961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ovéPole 4"/>
          <p:cNvSpPr/>
          <p:nvPr/>
        </p:nvSpPr>
        <p:spPr>
          <a:xfrm>
            <a:off x="4572000" y="4430880"/>
            <a:ext cx="2692440" cy="703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(3 + 0,4 + 0,5 + 0,2) * 15 000 = 61 5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481DC-1802-48C2-A833-64E2C1150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30360" y="2335320"/>
          <a:ext cx="5792760" cy="276048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ote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kancelářské potřeby pro administraci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up CD jak pro administraci, ta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zásoby drobného občerstv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ublikace/školící materiály/manuá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pora účastníků (stravné/ubytování)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7" name="TextovéPole 4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4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14C86-27A0-4AD3-9C17-867C44DB5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717560" y="2752560"/>
          <a:ext cx="5792760" cy="21513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Pronájem prostor pro semin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daňové a právní porad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Tisk skript pro 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realizaci výběrových řízení nezbytných pro pro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Rozpočet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06ABE-E5AF-4E6D-89A5-83C0569C7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04760" y="1952280"/>
            <a:ext cx="72756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- nesmí přesáhnout částku za všechny dokončené staveb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úpravy v 1 zdaňovacím období v úhrnu 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pořizovací cena) na každou jednotlivou účetní položku majetk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y jsou prováděny za účelem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usnadnění přístupu a pohybu osobám zdravotně postiženým, nebo úpravy výukových, tréninkových nebo pracovních prostor, používaných na realizaci aktivit s 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é jsou rekonstrukcí nebo modernizací,  pokud 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výšily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 jednotlivého  majetku v úhrnu ve zdaňovacím období částk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adají do </a:t>
            </a: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křížového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33640" y="2171880"/>
            <a:ext cx="71611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sou poskytovány jako náhrada mezd zaměstnavateli za  pracovníky po  dobu  jejich účasti na dalším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zdělává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až do výše 100% mzdových nákladů, nejvýše však do výše trojnásobku aktuální minimální mzdy)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, vstupenky,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Náklady vyplývající přímo z     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udit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522440" y="2685960"/>
            <a:ext cx="6715080" cy="733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589" name=""/>
          <p:cNvGraphicFramePr/>
          <p:nvPr/>
        </p:nvGraphicFramePr>
        <p:xfrm>
          <a:off x="1808280" y="3736800"/>
          <a:ext cx="5792760" cy="14637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bankovní poplat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ublicita projektu včetně úvodní a závěrečné kon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29840" y="2171880"/>
            <a:ext cx="64580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ní potřeba prokazovat účetními doklad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lady spojené s administrací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mohou být přiřazeny ke konkrétní aktivitě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klady: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up vody, paliv a energie, telefonní poplatky, poštovné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8880"/>
            <a:ext cx="64580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TextovéPole 8"/>
          <p:cNvSpPr/>
          <p:nvPr/>
        </p:nvSpPr>
        <p:spPr>
          <a:xfrm>
            <a:off x="1330200" y="3133800"/>
            <a:ext cx="60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plikaci Benefit 7 se po zadání % nepřímých nákladů dopočítá částka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"/>
          <p:cNvPicPr/>
          <p:nvPr/>
        </p:nvPicPr>
        <p:blipFill>
          <a:blip r:embed="rId1"/>
          <a:stretch/>
        </p:blipFill>
        <p:spPr>
          <a:xfrm>
            <a:off x="1111320" y="1952640"/>
            <a:ext cx="6676920" cy="118116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1330200" y="1644480"/>
            <a:ext cx="6458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še stanovena ve výzvě proc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Obrázek 12" descr="nn_benefit.JPG"/>
          <p:cNvPicPr/>
          <p:nvPr/>
        </p:nvPicPr>
        <p:blipFill>
          <a:blip r:embed="rId2"/>
          <a:stretch/>
        </p:blipFill>
        <p:spPr>
          <a:xfrm>
            <a:off x="1220760" y="3780000"/>
            <a:ext cx="474516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7" name="TextovéPole 15"/>
          <p:cNvSpPr/>
          <p:nvPr/>
        </p:nvSpPr>
        <p:spPr>
          <a:xfrm>
            <a:off x="5122800" y="47973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Šipka doprava 12"/>
          <p:cNvSpPr/>
          <p:nvPr/>
        </p:nvSpPr>
        <p:spPr>
          <a:xfrm rot="10800000">
            <a:off x="6838560" y="2607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Šipka doprava 12"/>
          <p:cNvSpPr/>
          <p:nvPr/>
        </p:nvSpPr>
        <p:spPr>
          <a:xfrm rot="10800000">
            <a:off x="6076440" y="4797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ovéPole 18"/>
          <p:cNvSpPr/>
          <p:nvPr/>
        </p:nvSpPr>
        <p:spPr>
          <a:xfrm>
            <a:off x="3959280" y="415440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440 000     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29840" y="2058840"/>
            <a:ext cx="645804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činnosti, které již v rámci jiných programů či Iniciativ Společenství financovaných z ESF či jiných programů financovaných Evropskou unií podporu dostávaj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výdaje na každodenní řízení, monitorování a kontroly žadatele, které by se prováděly i bez realizace projektu - sloužící k zajištění běžného chodu organizace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nákupy vozidel, infrastruktury, nemovitostí a pozemků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DPH nebo její část, pokud existuje zákonný nárok na její odpočet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přímé daně, daň z nemovitosti, daň dědická, darovací, silniční, cla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úroky z úvěrů a půjček, pokud se nejedná o schválenou formu podpory z fondu ESF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f79646"/>
                </a:solidFill>
                <a:latin typeface="Helvetica CE"/>
              </a:rPr>
              <a:t>stipendia nebo platby cílové skupině podobného charakteru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odstupné, peněžitá pomoc v mateřstv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výdaje vzniklé mimo časový rámec způsobilosti 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3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yužívejte komentář k rozpočtu či samostatnou příloh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uďte střídmí v odhadu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řípadě nejasností se na nás neváhejte obrát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Ing. Jana Barešová</a:t>
            </a:r>
            <a:br>
              <a:rPr sz="1800"/>
            </a:b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ea typeface="ＭＳ Ｐゴシック"/>
                <a:hlinkClick r:id="rId1"/>
              </a:rPr>
              <a:t>jana.baresova@msmt.cz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Tel.: 234 814 293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řiměře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ospodár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úč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kazat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časová způsobil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3D96B-0443-4DDE-A297-DC76C6C73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počet v projektové žádosti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26" name="Obrázek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490760" y="2135160"/>
            <a:ext cx="2892240" cy="28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7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157640" y="2538360"/>
            <a:ext cx="2854440" cy="28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28" name="Šipka doprava 8"/>
          <p:cNvSpPr/>
          <p:nvPr/>
        </p:nvSpPr>
        <p:spPr>
          <a:xfrm>
            <a:off x="3949560" y="315432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Šipka doprava 10"/>
          <p:cNvSpPr/>
          <p:nvPr/>
        </p:nvSpPr>
        <p:spPr>
          <a:xfrm>
            <a:off x="1300320" y="4729320"/>
            <a:ext cx="380880" cy="16812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Šipka doprava 12"/>
          <p:cNvSpPr/>
          <p:nvPr/>
        </p:nvSpPr>
        <p:spPr>
          <a:xfrm>
            <a:off x="3949560" y="374508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ipka doprava 14"/>
          <p:cNvSpPr/>
          <p:nvPr/>
        </p:nvSpPr>
        <p:spPr>
          <a:xfrm>
            <a:off x="3949560" y="286236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Šipka doprava 15"/>
          <p:cNvSpPr/>
          <p:nvPr/>
        </p:nvSpPr>
        <p:spPr>
          <a:xfrm>
            <a:off x="3967200" y="3473280"/>
            <a:ext cx="380880" cy="16668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5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49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0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7 - Náklady vyplývající přímo z rozhodnu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8 - Přímé způsobilé výdaje cel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 -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rubá mzda v čase, oboru a místě obvykl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oručená výše mezd/platů Metodický</a:t>
            </a:r>
            <a:r>
              <a:rPr b="0" lang="cs-CZ" sz="2400" spc="-1" strike="noStrike">
                <a:solidFill>
                  <a:srgbClr val="898989"/>
                </a:solidFill>
                <a:latin typeface="Helvetica CE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is č. 4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vyse-mezd-platu-v-projektech-op-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 0,8 * 40 000 = 32 000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39" name="Obrázek 3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853920" y="1973160"/>
            <a:ext cx="7105680" cy="28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0" name="Šipka doprava 4"/>
          <p:cNvSpPr/>
          <p:nvPr/>
        </p:nvSpPr>
        <p:spPr>
          <a:xfrm>
            <a:off x="353880" y="3606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1652760" y="5048280"/>
            <a:ext cx="6457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Arial"/>
              </a:rPr>
              <a:t>Projektový manažer 0,8 * 40 000 = 32 000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Šipka doprava 7"/>
          <p:cNvSpPr/>
          <p:nvPr/>
        </p:nvSpPr>
        <p:spPr>
          <a:xfrm rot="5400000">
            <a:off x="5590800" y="3249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44" name="Obrázek 9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1343160" y="1952640"/>
            <a:ext cx="6457680" cy="22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5" name="Obrázek 6" descr="komentar.JPG"/>
          <p:cNvPicPr/>
          <p:nvPr/>
        </p:nvPicPr>
        <p:blipFill>
          <a:blip r:embed="rId2"/>
          <a:stretch/>
        </p:blipFill>
        <p:spPr>
          <a:xfrm>
            <a:off x="1504800" y="4194000"/>
            <a:ext cx="6134400" cy="118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6" name="TextovéPole 8"/>
          <p:cNvSpPr/>
          <p:nvPr/>
        </p:nvSpPr>
        <p:spPr>
          <a:xfrm>
            <a:off x="1695600" y="449892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inová sazba lektora je lehce nadprůměrná, jelikož se jedná o výjimečného odborníka. Jeho zapojení do projektu je klíčové. Viz blíže příloha č.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ipka doprava 7"/>
          <p:cNvSpPr/>
          <p:nvPr/>
        </p:nvSpPr>
        <p:spPr>
          <a:xfrm>
            <a:off x="830160" y="4284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N nejsou nebo nemohou být jednoznačně spojené s konkrétní klíčovou aktivitou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25480" y="2814480"/>
          <a:ext cx="5792760" cy="2683080"/>
        </p:xfrm>
        <a:graphic>
          <a:graphicData uri="http://schemas.openxmlformats.org/drawingml/2006/table">
            <a:tbl>
              <a:tblPr/>
              <a:tblGrid>
                <a:gridCol w="2802240"/>
                <a:gridCol w="299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ová 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sta na povinnou public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ý zaměstna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technik zajišťující běžnou správu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itel bezpečnosti a ochrany zdr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raha, uklízeč, údržb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8:39:56Z</dcterms:modified>
  <cp:revision>181</cp:revision>
  <dc:subject/>
  <dc:title>Titulní strana – Titulek</dc:title>
</cp:coreProperties>
</file>